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645-3927-4244-BFDD-93538C05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216-8B30-4484-8DFB-1DE9CDDA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125-8DF1-4EDF-94FA-CC73D4F7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797-16E0-4727-A284-F67D0DB6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7060-2B45-48D1-9CE9-F270EC48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E276-7E2B-4B4A-B167-C3D52FEA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AC2F-8B05-4301-BB62-3663228C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1849-4F63-4404-A363-A868733A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E468-7B8B-47E2-868F-ECB349AA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824F-85AA-4439-A573-B8AA6BF6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6869-9FC6-4CFB-8484-E5E92F69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870-7E3D-4D23-B101-C4D148A1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0E9B-8BAB-446E-B936-8FE6D52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872D-EF3A-4440-8F64-C3CA49BF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9BE1-6FCC-413E-8EA3-ADA54CA3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BC39-FF10-40E6-99D8-29B6BFDF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705C-3939-4771-B87D-3EB94FBF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4FC-BCD8-498B-A1E2-43BC7746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FAC-30D7-4FFB-9252-DCD7BFCC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0AC-0FD6-4D34-A470-A13CC9A6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964-8536-408A-922A-67D98621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8D1-AB3D-4CD2-B8C4-4E8E14EC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587-F251-4190-BFC4-4E76D0C6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01F-481F-4BAA-8895-E019B6E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66C1-416D-4E37-9E8F-4C3D6D1B280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29CF-8D1D-44C5-99D1-135B0ED85F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Everybody!!!                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aac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9,2009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32767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7091280" y="216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ading fluency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arts of speec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ummarizing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Calder gam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rry Potter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n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titans curse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ound the worl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mework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acticing math skil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ame da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819520"/>
            <a:ext cx="739116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cosystem uni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ectricity uni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eld trip to U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p of USA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ongitude and latitu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ime meridian and equato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lectio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outhea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r student let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ugh draf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weirdest wake u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g day at scho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84582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of my favorite experiences are,going to UL when they put tin foil in the micro wa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ching footballs when there was a big crowd in front of m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2590920"/>
            <a:ext cx="1611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am good at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reading flu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handwriting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reading fluency by reading to my parents each day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grammar by making book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ork on my handwriting by writing at ho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5T15:23:49Z</dcterms:modified>
  <cp:revision>38</cp:revision>
  <dc:subject/>
  <dc:title>Welcome Mom and Dad!</dc:title>
</cp:coreProperties>
</file>